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05C4-26DF-48FA-B4DC-E9536D842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7F2D-360D-41B3-967C-341E39E8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3B6D-489E-4673-A9B0-7A2DFF2B4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BD4-E17A-4AB5-9FBD-E7A6B9B00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9212-6EAB-4E95-85D5-39F974F9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4F9F-69A1-4F34-B869-06BB6D5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3B45-D267-4127-85C5-CFDD2E36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597C-29CF-45C6-8C9F-AACC7865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EF9-7D45-4CBF-951D-1930A729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28BC-0D94-4A90-9705-406A3FF2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CD7D-99DD-47D5-A40E-6FEA48FB5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84B-BC3D-4A19-B209-A0A8CED5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5F25B-5495-4B7A-A41C-8BFD1FD6F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224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Audacity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Pod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ss Belar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lick the red circle to record. You will see the blue lines while you are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lick the yellow square to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ant to listen to the podcast, click the green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0"/>
            <a:ext cx="2895840" cy="99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096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as 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3760" y="2819520"/>
            <a:ext cx="4647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correc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e name MUST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’sLastName_Title_Fo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85840" y="3581280"/>
            <a:ext cx="487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ancel on this screen!  After you’re finished, I’ll add them to the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56:43Z</dcterms:created>
  <dc:creator>BBelardi</dc:creator>
  <dc:description/>
  <dc:language>en-US</dc:language>
  <cp:lastModifiedBy>BBelardi</cp:lastModifiedBy>
  <dcterms:modified xsi:type="dcterms:W3CDTF">2007-10-03T15:00:32Z</dcterms:modified>
  <cp:revision>2</cp:revision>
  <dc:subject/>
  <dc:title>Using Audacity to  Record Podcasts</dc:title>
</cp:coreProperties>
</file>